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96A-35E4-4E61-8679-0C54232F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CAB-B7F2-414F-9303-F12E2E10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72B-C5E7-491A-9832-8E9BAF80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600-7FB1-4636-94FD-5376923E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BD161-FC30-4B3A-A055-C957199B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3113A-DDDC-4A3C-977E-9CC88D33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43013-4AB9-4790-AD4C-C25BD3B0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02DD2-968B-41B4-9FE7-610838D1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1E12C-F309-4FED-BE96-1B9E819A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D4EC1-D760-44B6-8971-BC385DD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B143E-3B35-476C-BC45-6A7332C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264-9FF9-4E59-B7A1-E1BB1885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8F1DB-598C-4DFC-8F25-CB22190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240B-F42C-47FA-A57B-817CD74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7DB45-9D32-4979-98FE-CD1B33F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0E471-F1B0-4F9C-8E05-4DFF80D4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A74A5-47F3-4442-ADE9-307F02DE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1F9-3E6D-4C63-B9C7-1B8205BA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E51-4562-43C9-A7F5-6BE7040D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60D-47E4-4F2E-BE24-0A536B11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C76-ECCE-4065-983B-50C8BA6F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FF0-2774-44A0-9856-DDDD4EE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862-C961-45C5-B259-2B93A85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FA1-48B4-4C15-8D1D-17B1F9E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4C31-1B81-4906-B673-6D407A1687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E50B-0CB3-422A-87B0-B9492EECAA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essons 3 and 4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er of Mesopotamia/ Artisans and Crafts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mer of Mesopotam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around U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y and du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re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one: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erians were the first to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ke (used to link oxen for plow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ter’s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did not own land—worked it for wealthy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x:  important crop; made linen thread which made cl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ishermen in 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and bread most important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381400" cy="31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67280" y="3505320"/>
            <a:ext cx="2346480" cy="3124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0532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724280"/>
            <a:ext cx="1828800" cy="53352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bes: people who kept written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us: writing instrument (made impressions in soft clay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2859120" cy="33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10280" y="2971800"/>
            <a:ext cx="1940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neiform: Sumerian wedge-shaped 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linder Seal: how Sumerians signed their name; carvings identified owner; showed approval or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260520" cy="3232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799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sans: skilled craftsmen; turned raw materials into finishe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: goods sold to foreign tr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heel and clay to make p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carvings and dec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sans and Buy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 inlay: artisan used white shells, fit them together like a puzzle, pressed into softened tar, and covered with lapis laz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is Lazuli:  bright blue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2:50:26Z</dcterms:created>
  <dc:creator>erin.hendricks</dc:creator>
  <dc:description/>
  <dc:language>en-US</dc:language>
  <cp:lastModifiedBy>erin.hendricks</cp:lastModifiedBy>
  <dcterms:modified xsi:type="dcterms:W3CDTF">2011-08-25T13:23:27Z</dcterms:modified>
  <cp:revision>3</cp:revision>
  <dc:subject/>
  <dc:title>Lessons 3 and 4</dc:title>
</cp:coreProperties>
</file>